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30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1.png" ContentType="image/png"/>
  <Override PartName="/ppt/media/image43.png" ContentType="image/png"/>
  <Override PartName="/ppt/media/image32.png" ContentType="image/png"/>
  <Override PartName="/ppt/media/image4.gif" ContentType="image/gif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6.gif" ContentType="image/gif"/>
  <Override PartName="/ppt/media/image46.png" ContentType="image/png"/>
  <Override PartName="/ppt/media/image11.png" ContentType="image/png"/>
  <Override PartName="/ppt/media/image48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12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20.wmf" ContentType="image/x-wmf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B60-C507-42CF-BBBA-96EFB1C4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DF6-04E3-461B-960F-773DC915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A00-446F-4AF6-A757-62110E23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921-95EF-4F12-AB1C-A438A7E6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2A65-F1E0-4624-8E69-3DA5671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3AC-6E51-44DF-B109-2F65C93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63A4-C7B5-4378-BEE1-7A02913D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BBB-7778-4293-BC04-1479379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C589-1CD1-419B-A47B-17901CD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409-B694-4F8E-86BE-44C09B1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345B-C709-4315-8A2A-504B62A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55D-C071-4750-AE58-8633816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D078-5D18-4B23-869E-13635A3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91CB-81E3-4FFD-9B51-1A45B85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BA26-42F1-4BC5-BDA3-4F24733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D00-BE5C-4454-AB95-4342E070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C50-282B-4BD0-A8E6-5A573751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DB0-7D78-4CAC-841F-C13DA1C1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61F-6665-4C81-9A07-AC94F3EC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307-AF6A-4E51-A476-181F718B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F84-34BF-459A-B525-28AE7ECC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90-865D-4587-971F-D879C46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B0A-3EF4-479B-8BE0-28D690E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696-1F64-4D6E-A67C-1AF63475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15E-6EA0-4022-AA96-8233B788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416-CFB7-4C39-AF46-076E83DDA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zadania.info/29100?gclid=CIz8o_SMi7sCFYlF3godzjMAkg" TargetMode="External"/><Relationship Id="rId2" Type="http://schemas.openxmlformats.org/officeDocument/2006/relationships/hyperlink" Target="http://www.matmana6.pl/tablice_matematyczne/studia/funkcje_jednej_zmiennej_rzeczywistej/127-definicja_i_wlasnosci_funkcji" TargetMode="External"/><Relationship Id="rId3" Type="http://schemas.openxmlformats.org/officeDocument/2006/relationships/hyperlink" Target="http://www.zs5.lublin.pl/files/mjaworska/odczytywanie_wasnosci_funkcji_z_wykresow.pdf" TargetMode="External"/><Relationship Id="rId4" Type="http://schemas.openxmlformats.org/officeDocument/2006/relationships/hyperlink" Target="http://www.megamatma.pl/uczniowie/gimnazjum/wykresy-funkcji/pojecie-funkcji-wykres-funkcji" TargetMode="External"/><Relationship Id="rId5" Type="http://schemas.openxmlformats.org/officeDocument/2006/relationships/hyperlink" Target="http://www.megamatma.pl/uczniowie/gimnazjum/wykresy-funkcji/pojecie-funkcji-wykres-funkcji" TargetMode="External"/><Relationship Id="rId6" Type="http://schemas.openxmlformats.org/officeDocument/2006/relationships/hyperlink" Target="http://www.megamatma.pl/uczniowie/gimnazjum/wykresy-funkcji/pojecie-funkcji-wykres-funkcji" TargetMode="External"/><Relationship Id="rId7" Type="http://schemas.openxmlformats.org/officeDocument/2006/relationships/hyperlink" Target="http://www.megamatma.pl/uczniowie/gimnazjum/wykresy-funkcji/pojecie-funkcji-wykres-funkcji" TargetMode="External"/><Relationship Id="rId8" Type="http://schemas.openxmlformats.org/officeDocument/2006/relationships/hyperlink" Target="http://www.matematykam.pl/funkcja_liniowa_-_wlasnosci.html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295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689040" cy="10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91764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758880" cy="98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62720" y="533520"/>
            <a:ext cx="74772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533520"/>
            <a:ext cx="712800" cy="99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238880" y="457200"/>
            <a:ext cx="648000" cy="97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828800" y="609480"/>
            <a:ext cx="65556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476360" y="1916280"/>
            <a:ext cx="6912000" cy="377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71640" y="5950080"/>
            <a:ext cx="40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ła: mgr Emilia Pawłow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Sposoby przedstawiania funkcji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pis słow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wzó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wyk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pis słow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,Każdej liczbie naturalnej nieparzystej jednocyfrowej przyporządkowujemy liczbę  o 5 mniejszą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Graf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905120"/>
            <a:ext cx="2590920" cy="3352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828800"/>
            <a:ext cx="2590560" cy="3352680"/>
          </a:xfrm>
          <a:prstGeom prst="ellipse">
            <a:avLst/>
          </a:prstGeom>
          <a:solidFill>
            <a:srgbClr val="ffcccc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228600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1371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190512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14600" y="2209320"/>
            <a:ext cx="41911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52680" y="2895480"/>
            <a:ext cx="2819520" cy="15264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504960"/>
            <a:ext cx="43434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352680" y="4114440"/>
            <a:ext cx="2743200" cy="152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4800240"/>
            <a:ext cx="4419720" cy="228600"/>
          </a:xfrm>
          <a:prstGeom prst="line">
            <a:avLst/>
          </a:prstGeom>
          <a:ln w="38160">
            <a:solidFill>
              <a:srgbClr val="cc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be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5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0 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Wzór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981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5812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(x) = x 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1304"/>
                </a:solidFill>
                <a:latin typeface="Times New Roman"/>
              </a:rPr>
              <a:t>Wykres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05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718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3124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743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1981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886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267080"/>
            <a:ext cx="152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648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502920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2   3   4   5   6   7   8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828800"/>
            <a:ext cx="30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28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3124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9528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90512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wykres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514600" y="1752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24480" y="1752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51460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362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600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2362320"/>
            <a:ext cx="1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334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029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0292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94040"/>
            <a:ext cx="2057400" cy="1384200"/>
          </a:xfrm>
          <a:custGeom>
            <a:avLst/>
            <a:gdLst/>
            <a:ahLst/>
            <a:rect l="l" t="t" r="r" b="b"/>
            <a:pathLst>
              <a:path w="1296" h="872">
                <a:moveTo>
                  <a:pt x="0" y="184"/>
                </a:moveTo>
                <a:cubicBezTo>
                  <a:pt x="96" y="152"/>
                  <a:pt x="192" y="120"/>
                  <a:pt x="336" y="232"/>
                </a:cubicBezTo>
                <a:cubicBezTo>
                  <a:pt x="480" y="344"/>
                  <a:pt x="720" y="872"/>
                  <a:pt x="864" y="856"/>
                </a:cubicBezTo>
                <a:cubicBezTo>
                  <a:pt x="1008" y="840"/>
                  <a:pt x="1128" y="272"/>
                  <a:pt x="1200" y="136"/>
                </a:cubicBezTo>
                <a:cubicBezTo>
                  <a:pt x="1272" y="0"/>
                  <a:pt x="1284" y="20"/>
                  <a:pt x="1296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171880" cy="1079640"/>
          </a:xfrm>
          <a:custGeom>
            <a:avLst/>
            <a:gdLst/>
            <a:ahLst/>
            <a:rect l="l" t="t" r="r" b="b"/>
            <a:pathLst>
              <a:path w="1368" h="680">
                <a:moveTo>
                  <a:pt x="0" y="0"/>
                </a:moveTo>
                <a:cubicBezTo>
                  <a:pt x="468" y="236"/>
                  <a:pt x="936" y="472"/>
                  <a:pt x="1152" y="576"/>
                </a:cubicBezTo>
                <a:cubicBezTo>
                  <a:pt x="1368" y="680"/>
                  <a:pt x="1332" y="652"/>
                  <a:pt x="129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572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4956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0" y="41148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5812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      1      3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7   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191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    -4     -2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2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9280" y="1773360"/>
            <a:ext cx="6119640" cy="151128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y argument, dla którego funkcja przyjmuje wartość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176720" cy="3138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95640" y="1844640"/>
            <a:ext cx="2808360" cy="3456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przecięcia wykresu z osią 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z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429000"/>
            <a:ext cx="15228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52640" cy="152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4724280"/>
            <a:ext cx="152280" cy="15264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8000" y="1781280"/>
            <a:ext cx="4857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ytuacje z życia-przykłady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mu uczniowi jest przypisany jeden numer w dzienniku lekcyjn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a książka ma określoną liczbę st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zwierzę można zakwalifikować do ściśle określonego gatun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żde dziecko ma dokładnie jedną biologiczn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czytaj z wykresu miejsca zerowe funk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PIC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iejsce zerowe funkcj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miejsca zerowe podanych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03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2637000"/>
            <a:ext cx="1152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708280"/>
            <a:ext cx="144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4724280"/>
            <a:ext cx="7620120" cy="884520"/>
          </a:xfrm>
          <a:prstGeom prst="rect">
            <a:avLst/>
          </a:prstGeom>
          <a:solidFill>
            <a:srgbClr val="3694b6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bliczyć miejsce zerowe podanych funkcji należy w miejs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dstawić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29528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268360" y="1989000"/>
          <a:ext cx="4390920" cy="1152360"/>
        </p:xfrm>
        <a:graphic>
          <a:graphicData uri="http://schemas.openxmlformats.org/drawingml/2006/table">
            <a:tbl>
              <a:tblPr/>
              <a:tblGrid>
                <a:gridCol w="439560"/>
                <a:gridCol w="437760"/>
                <a:gridCol w="439920"/>
                <a:gridCol w="437760"/>
                <a:gridCol w="441360"/>
                <a:gridCol w="439560"/>
                <a:gridCol w="438120"/>
                <a:gridCol w="439560"/>
                <a:gridCol w="438120"/>
                <a:gridCol w="439200"/>
              </a:tblGrid>
              <a:tr h="59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16000" y="3357720"/>
            <a:ext cx="741672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dodatnie dla  X = {-4, -3, 2, 3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000" y="5013360"/>
            <a:ext cx="7416720" cy="100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przyjmuje wartości ujemne dla X = {-2, 0, 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artości dodatnie i ujemne funkcji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16000" y="1628640"/>
            <a:ext cx="2881440" cy="302004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Gdy dla pewnego argumen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artość funkcji jest dodat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o odpowiadający jej 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u leży na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869000"/>
            <a:ext cx="331308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dy wartość funkcji j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jemna to odpowied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nkt leży pod osią 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2560" y="549360"/>
            <a:ext cx="7466040" cy="11714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znacz na kolorowo argumenty, dla któryc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&gt;0      i       y&lt;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11344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dodat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na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dodatni na przykła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416720" cy="3705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5731560"/>
            <a:ext cx="40338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-4 &lt; x &lt;1 i x &gt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5733000"/>
            <a:ext cx="324000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&gt;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ó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620120" cy="15112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tości ujem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kcji odczytujemy z tej części wykresu, która znajduje się pod osi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ma wtedy znak ujemny, na przykł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705800" cy="36241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42920" y="5515560"/>
            <a:ext cx="417672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d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x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5444640"/>
            <a:ext cx="331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kcja nie przyjm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tości ujem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0" y="5589720"/>
                <a:ext cx="298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PIC"/>
          <p:cNvPicPr/>
          <p:nvPr/>
        </p:nvPicPr>
        <p:blipFill>
          <a:blip r:embed="rId1"/>
          <a:stretch/>
        </p:blipFill>
        <p:spPr>
          <a:xfrm>
            <a:off x="1187280" y="2997360"/>
            <a:ext cx="3370320" cy="3384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PIC"/>
          <p:cNvPicPr/>
          <p:nvPr/>
        </p:nvPicPr>
        <p:blipFill>
          <a:blip r:embed="rId2"/>
          <a:stretch/>
        </p:blipFill>
        <p:spPr>
          <a:xfrm>
            <a:off x="4859280" y="3068640"/>
            <a:ext cx="38512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PIC"/>
          <p:cNvPicPr/>
          <p:nvPr/>
        </p:nvPicPr>
        <p:blipFill>
          <a:blip r:embed="rId1"/>
          <a:stretch/>
        </p:blipFill>
        <p:spPr>
          <a:xfrm>
            <a:off x="1476360" y="1916280"/>
            <a:ext cx="6767640" cy="3593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62012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reśl dla jakich argumentów funkcja przyjmuje wartości dodatnie i ujem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8480" y="2060640"/>
            <a:ext cx="7824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rzedziały monotoniczności funkc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C:\Users\Wolf\AppData\Local\Microsoft\Windows\Temporary Internet Files\Content.IE5\T6PLSMCI\MC900434901[1].png"/>
          <p:cNvPicPr/>
          <p:nvPr/>
        </p:nvPicPr>
        <p:blipFill>
          <a:blip r:embed="rId1"/>
          <a:stretch/>
        </p:blipFill>
        <p:spPr>
          <a:xfrm>
            <a:off x="3059280" y="292428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szystkie powyższe sytuacje odpowiadają następującemu schematow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rosn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7723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maleją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" descr="http://www.matemaks.pl/grafika/funkcje/monotonicznosc/cwiczenie1a.jpg"/>
          <p:cNvPicPr/>
          <p:nvPr/>
        </p:nvPicPr>
        <p:blipFill>
          <a:blip r:embed="rId1"/>
          <a:stretch/>
        </p:blipFill>
        <p:spPr>
          <a:xfrm>
            <a:off x="3924360" y="1916280"/>
            <a:ext cx="4448160" cy="4009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56360" y="2492280"/>
            <a:ext cx="2533680" cy="720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kres funkcji „idzie” cały czas na dó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19280" y="2276640"/>
            <a:ext cx="2519280" cy="10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artości funkcji dla kolejnych x są coraz mniejsze, zmierzają do nieskończon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300640"/>
            <a:ext cx="417672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Z argumentami x, przesuwam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ę coraz dalej w stronę dodatniej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04360" y="3068640"/>
            <a:ext cx="144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602136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stał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3259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691200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rtości funkcji dla kolejnych x są taki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6093000"/>
            <a:ext cx="23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381560" cy="37688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222520" y="2205000"/>
            <a:ext cx="3097800" cy="825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wykres funkcji rosn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część niebie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1240" y="5445000"/>
            <a:ext cx="3452760" cy="82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wykres funkcji malejąc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de3"/>
                </a:solidFill>
                <a:latin typeface="Times New Roman"/>
              </a:rPr>
              <a:t>część zi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7859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0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rosn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osn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0520" cy="3429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42920" y="3645000"/>
            <a:ext cx="4249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zaś malej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leją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1489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356000" y="2924280"/>
            <a:ext cx="4176720" cy="3305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26920" y="596880"/>
            <a:ext cx="80758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DEFINI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752480"/>
            <a:ext cx="7608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żeli wraz ze wzrostem argumentów, wartości funkcji się nie zmieniają, to funkcja jes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, maleje jest stała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008000" y="1844640"/>
            <a:ext cx="8136000" cy="4033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16000" y="52538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2000" y="4653000"/>
            <a:ext cx="6769080" cy="180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funkcja jest </a:t>
            </a:r>
            <a:r>
              <a:rPr b="1" lang="en-US" sz="2800" spc="-1" strike="noStrike">
                <a:solidFill>
                  <a:srgbClr val="fefde3"/>
                </a:solidFill>
                <a:latin typeface="Times New Roman"/>
              </a:rPr>
              <a:t>stał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de3"/>
                </a:solidFill>
                <a:latin typeface="Times New Roman"/>
              </a:rPr>
              <a:t>dla  -2 &lt; x &lt;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08360" y="1876680"/>
            <a:ext cx="5113440" cy="30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sną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d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 &lt; x &lt; -2   i  1 &lt; x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jąc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x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cja j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ł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 -2 &lt; x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49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PIC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5054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319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Określ, dla jakich argumentów funkcja rośnie a dla jakich maleje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PIC"/>
          <p:cNvPicPr/>
          <p:nvPr/>
        </p:nvPicPr>
        <p:blipFill>
          <a:blip r:embed="rId1"/>
          <a:stretch/>
        </p:blipFill>
        <p:spPr>
          <a:xfrm>
            <a:off x="4500720" y="333360"/>
            <a:ext cx="4327200" cy="32781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673440" cy="10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15640" y="3068280"/>
            <a:ext cx="76201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dziedzinę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wszystkie miejsca zerowe funk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zytaj wartość funkcji dla argumentu x=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j argumenty dla których funkcja jest rosną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pisz zbiór wszystkich argumentów, dla których funkcja przyjmuje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ziedzina:  -6      x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jsca zerowe:  -2, 3,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8 dla y =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ja rośnie dla  1 &lt; x &lt; 3  i  5 &lt; x    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&lt; 0 dla  -2 &lt; x &lt; 3  i  3 &lt; x &l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780000" y="1844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27640" y="1773360"/>
                <a:ext cx="350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020000" y="3357720"/>
                <a:ext cx="3110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133720"/>
            <a:ext cx="2438640" cy="3504960"/>
          </a:xfrm>
          <a:prstGeom prst="ellipse">
            <a:avLst/>
          </a:prstGeom>
          <a:noFill/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133720"/>
            <a:ext cx="2438280" cy="350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523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666880"/>
            <a:ext cx="15228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200400"/>
            <a:ext cx="15264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9625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257800"/>
            <a:ext cx="152280" cy="152280"/>
          </a:xfrm>
          <a:prstGeom prst="ellipse">
            <a:avLst/>
          </a:prstGeom>
          <a:solidFill>
            <a:srgbClr val="3694b6"/>
          </a:soli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25146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6576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4290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87692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495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09680" y="2590560"/>
            <a:ext cx="3505320" cy="152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4400" y="3145680"/>
            <a:ext cx="4340880" cy="1659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05320"/>
            <a:ext cx="26668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3733920"/>
            <a:ext cx="4114800" cy="30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86000" y="3962520"/>
            <a:ext cx="38862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572000"/>
            <a:ext cx="3429000" cy="3808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4952520"/>
            <a:ext cx="3886200" cy="3812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53768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Określ na podstawie wykresu tej funkcj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3284280"/>
            <a:ext cx="7620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art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ejsca zerow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ziały monotonicznośc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ą i najmniejszą wartość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wszystkich argumentów, dla których funkcja przyjmuje wartości dodatnie oraz wartości ujem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PIC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588168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zory a wykresy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y sprawdzić cz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y punkt należy do wykresu funkc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ależy podstawić jego współrzędne do wzoru funkcji i wykonać obliczenia po obu stronach powstałego równania, aby sprawdzić, czy lewa strona będzie równała się prawej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71640" y="4797360"/>
            <a:ext cx="7619760" cy="1820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efde3"/>
                </a:solidFill>
                <a:latin typeface="Times New Roman"/>
              </a:rPr>
              <a:t>Jeżeli tak jest, to dany punkt należy do wykresu funkcji, jeżeli nie, znaczy to, że dany punkt nie należy do wykresu funkcj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4797000"/>
            <a:ext cx="711684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unkt (1,2) należy do wykresu funkcji, a punkt (-2,3) nie należy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404280"/>
            <a:ext cx="7489800" cy="1584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Sprawdź czy punkty: A= (1,2);  B=(-2,3) należą do wykresu funkcji:   y = 3x-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466040" cy="1389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Times New Roman"/>
              </a:rPr>
              <a:t>Mając do dyspozycji wykres funkcji, wystarczy znaleźć dany punkt w układzie współrzędnych – jeżeli leży on na prostej, która jest wykresem funkcji, to dany punkt należy do wykresu funkcji, jeżeli nie, znaczy to, że nie należ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1624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42920" y="620640"/>
            <a:ext cx="7632720" cy="194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ajdź drugą współrzędną punktu C=(3, 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dząc, że należy on do wykresu funk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reślonej wzorem   y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88000" y="1484280"/>
                <a:ext cx="787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225520" y="3500280"/>
                <a:ext cx="39038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411280" y="5373720"/>
            <a:ext cx="2016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 (3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20120" cy="2111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a tekstow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16000" y="3805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404640"/>
            <a:ext cx="357660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dojeżdża do pracy 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bliskiego miasta. Rysun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dstawia, jak zmienia się dro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konywana przez pana Pio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ającego się do pracy. Najpie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n Piotr idzie pieszo na stacj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lejową, następnie jedz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, natomiast ostatni et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ogi (ze stacji kolejowej do zakła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y) pokonuje, jadąc autobu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przeanalizowaniu rysun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odane pytan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 daleko mieszka pan Piotr 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cji kolejowej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Ile minut pan Piotr jedz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ciągiem oraz z jaką prędkości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usza się pocią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ak długo łącznie czeka na środ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komocji, którymi się porusz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Z jaką średnią prędkością porus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ę pan Piotr w drodze z domu do prac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68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8000" y="3805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5324400" cy="3946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87280" y="404640"/>
            <a:ext cx="3576960" cy="5904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mek wystrzelił w górę piłkę z pro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łe zdarzenie na bieżąco rejestrowa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mputer. Na podstawie wykre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ci wysokości piłeczki od cza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W jakim przedziale czasowym pił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osiła się w górę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Kiedy osiągnęła największ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so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Na jaką największą wysokoś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zniosła się piłk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Ile czasu trwało całe doświadczeni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ą drogę (w kierunku pionowy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była piłka w trzeciej, a jaką 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wartej sekundzie ruchu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7620120" cy="23241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kres przedstawia wartość prędkości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v)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jaką poruszał się Tomek, jadą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ochodem na pewnym odcinku trasy, w zależności od czasu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t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powiedz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Z jaką największą prędkością poruszał się Tomek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O której godzinie samochód Tomka rozwinął największą prędkość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Jeżeli poruszanie się z prędkością ujemną zinterpretujemy jako cofanie, to z jak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jwiększą prędkością Tomek cofał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Kiedy Tomek na chwilę zatrzymał się, a kiedy stał na przejeździe kolejowy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O której godzinie Tomek cofał z maksymalną prędkością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848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066320" y="404280"/>
            <a:ext cx="7620120" cy="576108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wykresie przedstawiono stan konta państwa Kowalskich w pierwsz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łowie lipca. Na tej podstawie odpowiedz na pytan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Jaka była najwyższa kwota na koncie państwa Kowalskich w pierwszej połowie lipca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W ciągu ilu dni na koncie państwa Kowalskich nie dokonywano żadnych transakcji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Kiedy przelano na konto wypłatę pani Kowalskiej (wcześniej niż mężowi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) W jakim dniu pa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cy rozpoczęli re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łazienki i wypłacili z k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 zł.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) Jaki był największy deb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koncie państwa Kowalskic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) Ile zarabia netto p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walski (dostaje przel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10. każdego miesiąca)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504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71640" y="1773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unkcją określoną na zbiorze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 wartościach w zbiorze Y nazywa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zyporządkowanie, w którym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każdemu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lementowi zbioru X przyporządkowany jest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dokładnie jeden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element zbioru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69228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finicj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066680" y="1752480"/>
          <a:ext cx="7466040" cy="1676160"/>
        </p:xfrm>
        <a:graphic>
          <a:graphicData uri="http://schemas.openxmlformats.org/drawingml/2006/table">
            <a:tbl>
              <a:tblPr/>
              <a:tblGrid>
                <a:gridCol w="746604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a liniowa 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funkcja określona w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ax +  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dzie  a i b są liczbami rzeczywistymi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258920" y="3933720"/>
          <a:ext cx="7273800" cy="1798920"/>
        </p:xfrm>
        <a:graphic>
          <a:graphicData uri="http://schemas.openxmlformats.org/drawingml/2006/table">
            <a:tbl>
              <a:tblPr/>
              <a:tblGrid>
                <a:gridCol w="72738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półczynnik kierunkow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yraz wolny funkcji liniowe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dziną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kcji liniowej jest zbiór liczb rzeczywisty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468520"/>
          </a:xfrm>
          <a:prstGeom prst="rect">
            <a:avLst/>
          </a:prstGeom>
          <a:solidFill>
            <a:srgbClr val="a1bd69"/>
          </a:solidFill>
          <a:ln w="9360">
            <a:solidFill>
              <a:srgbClr val="22130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resem funkcji liniowej, jak sama nazwa wskazuje, je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ia pr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arysowania wykresu funkcji liniowej wystarczą dwa punk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kcja liniowa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 funkcji: y = 2x + 2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bieramy sobie dwa argumenty (x) i obliczamy wartość funkcji, np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0) = 2 · 0 + 2 = 0 + 2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(-1) = 2 · (-1) + 2 = -2 + 2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znaczamy te punkty w układzie współrzędnych i rysujemy wyk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WYKRES FUNKCJI LINIOWE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86080" y="1428840"/>
          <a:ext cx="2286000" cy="13669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 2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Obraz 8" descr="wyk1.gif"/>
          <p:cNvPicPr/>
          <p:nvPr/>
        </p:nvPicPr>
        <p:blipFill>
          <a:blip r:embed="rId1"/>
          <a:stretch/>
        </p:blipFill>
        <p:spPr>
          <a:xfrm>
            <a:off x="571680" y="2928960"/>
            <a:ext cx="3501720" cy="3071880"/>
          </a:xfrm>
          <a:prstGeom prst="rect">
            <a:avLst/>
          </a:prstGeom>
          <a:ln w="0">
            <a:noFill/>
          </a:ln>
        </p:spPr>
      </p:pic>
      <p:pic>
        <p:nvPicPr>
          <p:cNvPr id="433" name="Obraz 9" descr="wyk2.gif"/>
          <p:cNvPicPr/>
          <p:nvPr/>
        </p:nvPicPr>
        <p:blipFill>
          <a:blip r:embed="rId2"/>
          <a:stretch/>
        </p:blipFill>
        <p:spPr>
          <a:xfrm>
            <a:off x="4643280" y="2928960"/>
            <a:ext cx="3502080" cy="3071880"/>
          </a:xfrm>
          <a:prstGeom prst="rect">
            <a:avLst/>
          </a:prstGeom>
          <a:ln w="0">
            <a:noFill/>
          </a:ln>
        </p:spPr>
      </p:pic>
      <p:sp>
        <p:nvSpPr>
          <p:cNvPr id="434" name="pole tekstowe 10"/>
          <p:cNvSpPr/>
          <p:nvPr/>
        </p:nvSpPr>
        <p:spPr>
          <a:xfrm>
            <a:off x="571680" y="607212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aznaczamy punk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ole tekstowe 12"/>
          <p:cNvSpPr/>
          <p:nvPr/>
        </p:nvSpPr>
        <p:spPr>
          <a:xfrm>
            <a:off x="464328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ujemy wyk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Punkty przecięcia wykresu funkcji liniowej z osiami układu współrzędnych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437" name="Obraz 6" descr="wyk3.gif"/>
          <p:cNvPicPr/>
          <p:nvPr/>
        </p:nvPicPr>
        <p:blipFill>
          <a:blip r:embed="rId1"/>
          <a:stretch/>
        </p:blipFill>
        <p:spPr>
          <a:xfrm>
            <a:off x="1116000" y="162864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637440" y="2348640"/>
            <a:ext cx="104040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29080" y="3141000"/>
            <a:ext cx="863640" cy="52056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371628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92360" y="155700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 jest funkcja określona wzorem y = 2x –3, której dziedziną jes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{ -2, -1, 3, 4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{-3, -2, -1 , 0, 1 , 2, 3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zbiór liczb rzeczywisty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sobnych trzech wykresach narysuj wykresy tych funkcj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sz co jest wykresem każdej z tych funk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arysuj wykresy podanych funkcji: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3x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-2x+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3x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1403280" y="3716280"/>
          <a:ext cx="4512960" cy="1513080"/>
        </p:xfrm>
        <a:graphic>
          <a:graphicData uri="http://schemas.openxmlformats.org/drawingml/2006/table">
            <a:tbl>
              <a:tblPr/>
              <a:tblGrid>
                <a:gridCol w="951840"/>
                <a:gridCol w="823320"/>
                <a:gridCol w="825120"/>
                <a:gridCol w="970200"/>
                <a:gridCol w="9424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1066680" y="175248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wna wstążka kosztuje 0,50 zł. za 1 metr. Przedstaw w tabeli ile złotych trzeba zapłacić za podane kawał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42920" y="40464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480" y="4076280"/>
            <a:ext cx="29757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- długość wstążki w met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- koszt zakupu w złot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7620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większa się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długość wstążki i jej koszt to wielkości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wprost proporcjon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268360" y="1844640"/>
          <a:ext cx="4969080" cy="1368360"/>
        </p:xfrm>
        <a:graphic>
          <a:graphicData uri="http://schemas.openxmlformats.org/drawingml/2006/table">
            <a:tbl>
              <a:tblPr/>
              <a:tblGrid>
                <a:gridCol w="987480"/>
                <a:gridCol w="1003320"/>
                <a:gridCol w="995400"/>
                <a:gridCol w="1003320"/>
                <a:gridCol w="9795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cbbd83"/>
                    </a:solidFill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6157800" y="5083920"/>
            <a:ext cx="1625400" cy="520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0,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wprost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56000" y="4724280"/>
                <a:ext cx="12621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635280" y="3213000"/>
                <a:ext cx="237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orcjonalność prost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1979640" y="422100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700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biór X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dziedzin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funkcji. Elementy dziedziny to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rgumenty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06864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Zbiór 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zbiór 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, a jego elementy to </a:t>
            </a:r>
            <a:r>
              <a:rPr b="1" lang="en-US" sz="3200" spc="-1" strike="noStrike" u="sng">
                <a:solidFill>
                  <a:srgbClr val="6a6504"/>
                </a:solidFill>
                <a:uFillTx/>
                <a:latin typeface="Times New Roman"/>
              </a:rPr>
              <a:t>wartości funkcji</a:t>
            </a:r>
            <a:r>
              <a:rPr b="1" lang="en-US" sz="3200" spc="-1" strike="noStrike">
                <a:solidFill>
                  <a:srgbClr val="6a65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867280" y="1773000"/>
            <a:ext cx="2952720" cy="4608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rys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dstaw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 zależności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prz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ochód jadący ze stał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od cz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z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i przeby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oga przy stałe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 s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elkościam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p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rcjon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040360" cy="40021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1116000" y="404280"/>
            <a:ext cx="61200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cc"/>
                </a:solidFill>
                <a:latin typeface="Times New Roman"/>
              </a:rPr>
              <a:t>Zapisz za pomocą wzoru zależność s od 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6020640"/>
            <a:ext cx="6985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ujemy:            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924360" y="1773360"/>
                <a:ext cx="460836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076720" y="2997360"/>
                <a:ext cx="24116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059280" y="4365720"/>
                <a:ext cx="25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116000" y="936000"/>
            <a:ext cx="35272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h - 300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18520" y="1988280"/>
            <a:ext cx="25048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ze wz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58920" y="4004640"/>
            <a:ext cx="1297080" cy="52056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ę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195640" y="2997360"/>
                <a:ext cx="2376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56000" y="404280"/>
            <a:ext cx="4330800" cy="1143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3289320" cy="424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ysunek przedstaw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ykresy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 czasu jazdy dla róż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zas jazdy ze stał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ędkością j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rcjonaln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ebytej drogi. Wykr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j zależności jest półpro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86160" cy="36576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2075760"/>
            <a:ext cx="55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50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51640" y="4220280"/>
            <a:ext cx="865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5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prawdźmy wzór funkcji fioletowej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wykresu odczytamy x=4  y= 6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40000" y="2637000"/>
                <a:ext cx="36432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132000" y="3933720"/>
                <a:ext cx="2592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54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wannie było 50 litrów wody, gdy odkręcono kran. Z kranu woda wlewa się z szybkością 8 litrów na minutę. Zapisz wzór i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rysuj wyk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kcji opisującej zależność ilości wody w wannie od czas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0000" y="4221000"/>
            <a:ext cx="7620120" cy="172908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ile wody będzie w wannie po 5 minu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o ilu minutach napełni się wanna o pojemności 400 litr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inuta - 8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minut – 4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     50+40=90 li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     y=8x+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=8x+50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   x = 350:8    44 min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5508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beczce było 100 litrów wody, zaczęła ona wyciekać z szybkością 2 litry na minutę. </a:t>
            </a:r>
            <a:r>
              <a:rPr b="0" lang="en-US" sz="3200" spc="-1" strike="noStrike">
                <a:solidFill>
                  <a:srgbClr val="6a6504"/>
                </a:solidFill>
                <a:latin typeface="Times New Roman"/>
              </a:rPr>
              <a:t>Podaj wzór, który przedstawia zależność ilości wody w beczce (w litrach) od czasu (w minut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42920" y="2492280"/>
            <a:ext cx="3313080" cy="86544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100-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4292640"/>
            <a:ext cx="5327640" cy="865080"/>
          </a:xfrm>
          <a:prstGeom prst="rect">
            <a:avLst/>
          </a:prstGeom>
          <a:solidFill>
            <a:srgbClr val="f04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da wyleci po 50 minut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otnik wykonuje pewną pracę w ciągu 27 godzin. Przedstaw w tabeli w jakim czasie tę samą pracę wykona podana ilość robot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24000" y="371628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88000" y="5231880"/>
            <a:ext cx="3384360" cy="6426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– ilość robot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– czas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411280" y="1773360"/>
          <a:ext cx="4897440" cy="1224000"/>
        </p:xfrm>
        <a:graphic>
          <a:graphicData uri="http://schemas.openxmlformats.org/drawingml/2006/table">
            <a:tbl>
              <a:tblPr/>
              <a:tblGrid>
                <a:gridCol w="973080"/>
                <a:gridCol w="989280"/>
                <a:gridCol w="981000"/>
                <a:gridCol w="987480"/>
                <a:gridCol w="9666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6a6504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762012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uważ, że gdy zwiększa się x, to tyle samo razy zmniejsza się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tem ilość robotników i czas ich pracy to wielkości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dwrotnie proporcjonal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ta wyraża się wzor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7093080" y="5084640"/>
                <a:ext cx="13665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zykłady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3843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x i y są wielkościami odwrotnie proporcjonalnymi to zależność y od x można zawsze przedstawić za pomocą wzor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zie      jest pewną liczbą dodatni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348000" y="3141720"/>
                <a:ext cx="1800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443640" y="4653000"/>
                <a:ext cx="2160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908000" y="4724280"/>
                <a:ext cx="43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187280" y="5332320"/>
            <a:ext cx="7135920" cy="1191240"/>
          </a:xfrm>
          <a:prstGeom prst="rect">
            <a:avLst/>
          </a:prstGeom>
          <a:solidFill>
            <a:srgbClr val="6a65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cz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elkości odwrotnie proporcjonalnych jest stał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720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954600" cy="42494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042920" y="549360"/>
            <a:ext cx="7620120" cy="1143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Times New Roman"/>
              </a:rPr>
              <a:t>Proporcjonalność odwrot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97868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Sprawdź, czy wielkości podane w tabelce są odwrotnie proporcjonalne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258920" y="2997000"/>
            <a:ext cx="7399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y podane wielkości były odwrotnie proporcjonalne, ich iloczyn musi być stały, liczymy więc   x ·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0,3 · 4 = 1,2             1 · 1,2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· 0,4 = 1,2             2 · 0,6 = 1,2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· 6 = 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69236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5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02920" y="549000"/>
            <a:ext cx="7056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czyn jest stały więc podane wielkości są odwrotnie proporcjona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półczynnik proporcjonalności dla podanych wielkości to a = 1,2 a wzór wygląda następują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4836"/>
                </a:solidFill>
                <a:latin typeface="Times New Roman"/>
              </a:rPr>
              <a:t>UWA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dybyśmy w  jednym mnożeniu otrzymali inną liczbę, podane wielkości nie byłyby odwrotnie proporcjonal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Obraz 5" descr="wz8.gif"/>
          <p:cNvPicPr/>
          <p:nvPr/>
        </p:nvPicPr>
        <p:blipFill>
          <a:blip r:embed="rId1"/>
          <a:stretch/>
        </p:blipFill>
        <p:spPr>
          <a:xfrm>
            <a:off x="3851280" y="2637000"/>
            <a:ext cx="17272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zadania.info/29100?gclid=CIz8o_SMi7sCFYlF3godzjMA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www.matmana6.pl/tablice_matematyczne/studia/funkcje_jednej_zmiennej_rzeczywistej/127-definicja_i_wlasnosci_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www.zs5.lublin.pl/files/mjaworska/odczytywanie_wasnosci_funkcji_z_wykresow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www.megamatma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/uczniowie/gimnazjum/wykresy-funkcji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pojecie-funkcji-wykres-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http://www.matematykam.pl/funkcja_liniowa_-_wlasnosc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1430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óry graf nie przedstawia funkcji i 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905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981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26708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11480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191120"/>
            <a:ext cx="1066680" cy="160020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5257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28600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819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5909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8954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400800" y="30481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4956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87692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5181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5105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48765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2286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Zadanie 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cz wartość funkcji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3x-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la argumentów: x = -1,  x = 0,  x =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971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-1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1) – 2 = -2 –2 = 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0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2 = 0 –2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181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2 = 4 –2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774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9:16Z</dcterms:created>
  <dc:creator>ppp</dc:creator>
  <dc:description/>
  <dc:language>en-US</dc:language>
  <cp:lastModifiedBy>Matematyka</cp:lastModifiedBy>
  <dcterms:modified xsi:type="dcterms:W3CDTF">2014-03-01T14:34:05Z</dcterms:modified>
  <cp:revision>260</cp:revision>
  <dc:subject/>
  <dc:title>Prezentacja programu PowerPoint</dc:title>
</cp:coreProperties>
</file>